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3713" cy="9263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FEC-EEC7-47B1-B767-EC90F27A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B70-D2D4-484C-88E4-D6B90962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529-8EE9-41B9-87EB-60977420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8DF-A793-4912-8A9F-DC4F0BAF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8A9-0CAE-48C8-8171-2CF4C4D5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DED-F9D7-4566-8568-AABC93A9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B1A-1530-49A6-B00E-74A79FD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C60-8C92-4D50-A158-D06F9716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808-4BA3-487B-9E57-CA7DC7B7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779-5746-43E5-A620-77E2C89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154-EA61-48B2-888A-3F4A55F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7BA-475D-4DF6-8571-D00DC0B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5109-736B-46EA-BF1A-5A933F030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bthslmc.pbworks.com/BTHS+Excellence+By+Design" TargetMode="External"/><Relationship Id="rId4" Type="http://schemas.openxmlformats.org/officeDocument/2006/relationships/hyperlink" Target="http://bthslmc.pbworks.com/BTHS+Excellence+By+Design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ebdvisitation.wikispaces.com/" TargetMode="External"/><Relationship Id="rId4" Type="http://schemas.openxmlformats.org/officeDocument/2006/relationships/hyperlink" Target="http://ebdvisitation.wikispaces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43828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lington Township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828800"/>
            <a:ext cx="7315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dd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cellence By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Committee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17524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254304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Priorities with Three to Five Measurable 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8862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6080" y="472428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an Ac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ing Implementation Te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95360" y="210492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Mathematics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Mathema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75.1% of the students in the Class of 2013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27.5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2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5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676520"/>
            <a:ext cx="81532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67% of the students in the Class of 2012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1676520"/>
            <a:ext cx="81532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64.7% of the students in the Class of 2011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79.5% of the students in the Class of 2010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1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61.8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429000" y="533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23960" y="1371600"/>
            <a:ext cx="7696080" cy="5029200"/>
            <a:chOff x="723960" y="1371600"/>
            <a:chExt cx="7696080" cy="5029200"/>
          </a:xfrm>
        </p:grpSpPr>
        <p:grpSp>
          <p:nvGrpSpPr>
            <p:cNvPr id="127" name=""/>
            <p:cNvGrpSpPr/>
            <p:nvPr/>
          </p:nvGrpSpPr>
          <p:grpSpPr>
            <a:xfrm>
              <a:off x="726480" y="1373760"/>
              <a:ext cx="7690320" cy="5024880"/>
              <a:chOff x="726480" y="1373760"/>
              <a:chExt cx="7690320" cy="50248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26480" y="1373760"/>
                <a:ext cx="7690320" cy="445320"/>
                <a:chOff x="726480" y="1373760"/>
                <a:chExt cx="7690320" cy="4453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26480" y="1373760"/>
                  <a:ext cx="7690320" cy="44532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726480" y="1373760"/>
                  <a:ext cx="7690320" cy="445320"/>
                  <a:chOff x="726480" y="1373760"/>
                  <a:chExt cx="7690320" cy="4453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85160" y="1373760"/>
                    <a:ext cx="7572240" cy="445320"/>
                  </a:xfrm>
                  <a:prstGeom prst="rect">
                    <a:avLst/>
                  </a:pr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y 2016, 100% of all students will achieve proficiency on the State exit examination in mathemati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26480" y="1373760"/>
                    <a:ext cx="7690320" cy="44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726480" y="1819080"/>
                <a:ext cx="1922400" cy="572400"/>
                <a:chOff x="726480" y="1819080"/>
                <a:chExt cx="1922400" cy="57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2648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726480" y="1819080"/>
                  <a:ext cx="1922400" cy="572400"/>
                  <a:chOff x="726480" y="1819080"/>
                  <a:chExt cx="1922400" cy="5724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851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easurement Instru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2648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2648880" y="1819080"/>
                <a:ext cx="1922760" cy="572400"/>
                <a:chOff x="2648880" y="1819080"/>
                <a:chExt cx="1922760" cy="572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48880" y="1819080"/>
                  <a:ext cx="192276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2648880" y="1819080"/>
                  <a:ext cx="1922760" cy="572400"/>
                  <a:chOff x="2648880" y="1819080"/>
                  <a:chExt cx="1922760" cy="572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27075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2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648880" y="1819080"/>
                    <a:ext cx="192276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4571640" y="1819080"/>
                <a:ext cx="1922400" cy="572400"/>
                <a:chOff x="4571640" y="1819080"/>
                <a:chExt cx="1922400" cy="572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5716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4571640" y="1819080"/>
                  <a:ext cx="1922400" cy="572400"/>
                  <a:chOff x="4571640" y="1819080"/>
                  <a:chExt cx="1922400" cy="5724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46303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4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716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6494040" y="1819080"/>
                <a:ext cx="1922400" cy="572400"/>
                <a:chOff x="6494040" y="1819080"/>
                <a:chExt cx="1922400" cy="572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940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6494040" y="1819080"/>
                  <a:ext cx="1922400" cy="572400"/>
                  <a:chOff x="6494040" y="1819080"/>
                  <a:chExt cx="1922400" cy="5724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65527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6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4940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726480" y="2391480"/>
                <a:ext cx="1922400" cy="826920"/>
                <a:chOff x="726480" y="2391480"/>
                <a:chExt cx="1922400" cy="8269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851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JASK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648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648880" y="2391480"/>
                <a:ext cx="1922760" cy="826920"/>
                <a:chOff x="2648880" y="2391480"/>
                <a:chExt cx="1922760" cy="826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075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3.4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.7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.8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.2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48880" y="239148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1640" y="2391480"/>
                <a:ext cx="1922400" cy="826920"/>
                <a:chOff x="4571640" y="2391480"/>
                <a:chExt cx="1922400" cy="8269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6303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.7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9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.4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4.1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716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494040" y="2391480"/>
                <a:ext cx="1922400" cy="826920"/>
                <a:chOff x="6494040" y="2391480"/>
                <a:chExt cx="1922400" cy="8269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5527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940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26480" y="3218400"/>
                <a:ext cx="1922400" cy="826560"/>
                <a:chOff x="726480" y="3218400"/>
                <a:chExt cx="1922400" cy="8265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851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32; Proficient by BTHS Standard = 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2648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648880" y="3218400"/>
                <a:ext cx="1922760" cy="826560"/>
                <a:chOff x="2648880" y="3218400"/>
                <a:chExt cx="1922760" cy="8265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7075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648880" y="321840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571640" y="3218400"/>
                <a:ext cx="1922400" cy="826560"/>
                <a:chOff x="4571640" y="3218400"/>
                <a:chExt cx="1922400" cy="826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6303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9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16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494040" y="3218400"/>
                <a:ext cx="1922400" cy="826560"/>
                <a:chOff x="6494040" y="3218400"/>
                <a:chExt cx="1922400" cy="826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5527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940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26480" y="4044960"/>
                <a:ext cx="1922400" cy="826920"/>
                <a:chOff x="726480" y="4044960"/>
                <a:chExt cx="1922400" cy="826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851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2; Proficient by BTHS Standard = 2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2648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648880" y="4044960"/>
                <a:ext cx="1922760" cy="826920"/>
                <a:chOff x="2648880" y="4044960"/>
                <a:chExt cx="1922760" cy="826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7075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6.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648880" y="404496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571640" y="4044960"/>
                <a:ext cx="1922400" cy="826920"/>
                <a:chOff x="4571640" y="4044960"/>
                <a:chExt cx="1922400" cy="8269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6303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.3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716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494040" y="4044960"/>
                <a:ext cx="1922400" cy="826920"/>
                <a:chOff x="6494040" y="4044960"/>
                <a:chExt cx="1922400" cy="8269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5527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4940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26480" y="4871880"/>
                <a:ext cx="1922400" cy="826560"/>
                <a:chOff x="726480" y="4871880"/>
                <a:chExt cx="1922400" cy="8265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851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SP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2648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48880" y="4871880"/>
                <a:ext cx="1922760" cy="826560"/>
                <a:chOff x="2648880" y="4871880"/>
                <a:chExt cx="1922760" cy="8265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075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6.3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1.1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.4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.5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48880" y="487188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71640" y="4871880"/>
                <a:ext cx="1922400" cy="826560"/>
                <a:chOff x="4571640" y="4871880"/>
                <a:chExt cx="1922400" cy="8265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6303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3.1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.5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9.1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.2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716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494040" y="4871880"/>
                <a:ext cx="1922400" cy="826560"/>
                <a:chOff x="6494040" y="4871880"/>
                <a:chExt cx="1922400" cy="826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5527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4940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26480" y="5698800"/>
                <a:ext cx="1922400" cy="699840"/>
                <a:chOff x="726480" y="5698800"/>
                <a:chExt cx="1922400" cy="699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851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d-of-Course Assess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ginning with the Class of 2015?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2648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648880" y="5698800"/>
                <a:ext cx="1922760" cy="699840"/>
                <a:chOff x="2648880" y="5698800"/>
                <a:chExt cx="1922760" cy="6998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7075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648880" y="5698800"/>
                  <a:ext cx="192276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571640" y="5698800"/>
                <a:ext cx="1922400" cy="699840"/>
                <a:chOff x="4571640" y="5698800"/>
                <a:chExt cx="1922400" cy="6998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6303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5716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494040" y="5698800"/>
                <a:ext cx="1922400" cy="699840"/>
                <a:chOff x="6494040" y="5698800"/>
                <a:chExt cx="1922400" cy="6998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5527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940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723960" y="1371600"/>
              <a:ext cx="7696080" cy="50292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5360" y="2104920"/>
            <a:ext cx="8153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Language Arts Literacy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Language Arts Lite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91.5% of the student in the Class of 2013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3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60" y="1676520"/>
            <a:ext cx="81532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83.3% of the student in the Class of 2012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447920"/>
            <a:ext cx="73152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Internal Coordin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Planning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cation with Faculty, Staff, and Community v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EBD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ulty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676520"/>
            <a:ext cx="81532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85% of the student in the Class of 2011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92.4% of the students in the Class of 2010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36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9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0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429000" y="533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3960" y="1371600"/>
            <a:ext cx="7696080" cy="5029200"/>
            <a:chOff x="723960" y="1371600"/>
            <a:chExt cx="7696080" cy="5029200"/>
          </a:xfrm>
        </p:grpSpPr>
        <p:grpSp>
          <p:nvGrpSpPr>
            <p:cNvPr id="248" name=""/>
            <p:cNvGrpSpPr/>
            <p:nvPr/>
          </p:nvGrpSpPr>
          <p:grpSpPr>
            <a:xfrm>
              <a:off x="726480" y="1373760"/>
              <a:ext cx="7690320" cy="5024880"/>
              <a:chOff x="726480" y="1373760"/>
              <a:chExt cx="7690320" cy="50248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26480" y="1373760"/>
                <a:ext cx="7690320" cy="445320"/>
                <a:chOff x="726480" y="1373760"/>
                <a:chExt cx="7690320" cy="4453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26480" y="1373760"/>
                  <a:ext cx="7690320" cy="44532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726480" y="1373760"/>
                  <a:ext cx="7690320" cy="445320"/>
                  <a:chOff x="726480" y="1373760"/>
                  <a:chExt cx="7690320" cy="4453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785160" y="1373760"/>
                    <a:ext cx="7572240" cy="445320"/>
                  </a:xfrm>
                  <a:prstGeom prst="rect">
                    <a:avLst/>
                  </a:pr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y 2016, 100% of all students will achieve proficiency on the State exit examination in Language Arts Literac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26480" y="1373760"/>
                    <a:ext cx="7690320" cy="44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726480" y="1819080"/>
                <a:ext cx="1922400" cy="572400"/>
                <a:chOff x="726480" y="1819080"/>
                <a:chExt cx="1922400" cy="572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648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726480" y="1819080"/>
                  <a:ext cx="1922400" cy="572400"/>
                  <a:chOff x="726480" y="1819080"/>
                  <a:chExt cx="1922400" cy="572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7851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easurement Instru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648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2648880" y="1819080"/>
                <a:ext cx="1922760" cy="572400"/>
                <a:chOff x="2648880" y="1819080"/>
                <a:chExt cx="1922760" cy="5724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648880" y="1819080"/>
                  <a:ext cx="192276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2648880" y="1819080"/>
                  <a:ext cx="1922760" cy="572400"/>
                  <a:chOff x="2648880" y="1819080"/>
                  <a:chExt cx="1922760" cy="5724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27075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2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648880" y="1819080"/>
                    <a:ext cx="192276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4571640" y="1819080"/>
                <a:ext cx="1922400" cy="572400"/>
                <a:chOff x="4571640" y="1819080"/>
                <a:chExt cx="1922400" cy="572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5716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571640" y="1819080"/>
                  <a:ext cx="1922400" cy="572400"/>
                  <a:chOff x="4571640" y="1819080"/>
                  <a:chExt cx="1922400" cy="5724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46303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4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5716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"/>
              <p:cNvGrpSpPr/>
              <p:nvPr/>
            </p:nvGrpSpPr>
            <p:grpSpPr>
              <a:xfrm>
                <a:off x="6494040" y="1819080"/>
                <a:ext cx="1922400" cy="572400"/>
                <a:chOff x="6494040" y="1819080"/>
                <a:chExt cx="1922400" cy="5724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4940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6494040" y="1819080"/>
                  <a:ext cx="1922400" cy="572400"/>
                  <a:chOff x="6494040" y="1819080"/>
                  <a:chExt cx="1922400" cy="5724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65527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6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4940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726480" y="2391480"/>
                <a:ext cx="1922400" cy="826920"/>
                <a:chOff x="726480" y="2391480"/>
                <a:chExt cx="1922400" cy="826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851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JASK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648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648880" y="2391480"/>
                <a:ext cx="1922760" cy="826920"/>
                <a:chOff x="2648880" y="2391480"/>
                <a:chExt cx="1922760" cy="8269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7075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4.3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1.5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.1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.1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648880" y="239148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571640" y="2391480"/>
                <a:ext cx="1922400" cy="826920"/>
                <a:chOff x="4571640" y="2391480"/>
                <a:chExt cx="1922400" cy="8269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6303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7.1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.7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.5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.1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716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6494040" y="2391480"/>
                <a:ext cx="1922400" cy="826920"/>
                <a:chOff x="6494040" y="2391480"/>
                <a:chExt cx="1922400" cy="8269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65527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4940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26480" y="3218400"/>
                <a:ext cx="1922400" cy="826560"/>
                <a:chOff x="726480" y="3218400"/>
                <a:chExt cx="1922400" cy="826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851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32; Proficient by BTHS Standard = 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2648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648880" y="3218400"/>
                <a:ext cx="1922760" cy="826560"/>
                <a:chOff x="2648880" y="3218400"/>
                <a:chExt cx="1922760" cy="8265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7075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.9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48880" y="321840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571640" y="3218400"/>
                <a:ext cx="1922400" cy="826560"/>
                <a:chOff x="4571640" y="3218400"/>
                <a:chExt cx="1922400" cy="8265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6303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4.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16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6494040" y="3218400"/>
                <a:ext cx="1922400" cy="826560"/>
                <a:chOff x="6494040" y="3218400"/>
                <a:chExt cx="1922400" cy="8265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5527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4940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726480" y="4044960"/>
                <a:ext cx="1922400" cy="826920"/>
                <a:chOff x="726480" y="4044960"/>
                <a:chExt cx="1922400" cy="826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851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8; Proficient by BTHS Standard = 3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648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648880" y="4044960"/>
                <a:ext cx="1922760" cy="826920"/>
                <a:chOff x="2648880" y="4044960"/>
                <a:chExt cx="1922760" cy="8269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7075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48880" y="404496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571640" y="4044960"/>
                <a:ext cx="1922400" cy="826920"/>
                <a:chOff x="4571640" y="4044960"/>
                <a:chExt cx="1922400" cy="8269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6303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5716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494040" y="4044960"/>
                <a:ext cx="1922400" cy="826920"/>
                <a:chOff x="6494040" y="4044960"/>
                <a:chExt cx="1922400" cy="8269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5527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4940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726480" y="4871880"/>
                <a:ext cx="1922400" cy="826560"/>
                <a:chOff x="726480" y="4871880"/>
                <a:chExt cx="1922400" cy="8265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851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SP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648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648880" y="4871880"/>
                <a:ext cx="1922760" cy="826560"/>
                <a:chOff x="2648880" y="4871880"/>
                <a:chExt cx="1922760" cy="826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075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7.4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6.5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.4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48880" y="487188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571640" y="4871880"/>
                <a:ext cx="1922400" cy="826560"/>
                <a:chOff x="4571640" y="4871880"/>
                <a:chExt cx="1922400" cy="826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6303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7.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.7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3.3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.2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716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494040" y="4871880"/>
                <a:ext cx="1922400" cy="826560"/>
                <a:chOff x="6494040" y="4871880"/>
                <a:chExt cx="1922400" cy="8265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5527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940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26480" y="5698800"/>
                <a:ext cx="1922400" cy="699840"/>
                <a:chOff x="726480" y="5698800"/>
                <a:chExt cx="1922400" cy="6998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851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2648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648880" y="5698800"/>
                <a:ext cx="1922760" cy="699840"/>
                <a:chOff x="2648880" y="5698800"/>
                <a:chExt cx="1922760" cy="6998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7075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648880" y="5698800"/>
                  <a:ext cx="192276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571640" y="5698800"/>
                <a:ext cx="1922400" cy="699840"/>
                <a:chOff x="4571640" y="5698800"/>
                <a:chExt cx="1922400" cy="6998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303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716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94040" y="5698800"/>
                <a:ext cx="1922400" cy="699840"/>
                <a:chOff x="6494040" y="5698800"/>
                <a:chExt cx="1922400" cy="699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5527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940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723960" y="1371600"/>
              <a:ext cx="7696080" cy="50292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495360" y="28353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nd implement a technology plan for the 2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hat best prepares our students for their post-secondary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62120" y="25909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533520"/>
            <a:ext cx="510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To Be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42900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ing the Accredit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Accreditation Team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838080" y="2514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342900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reditation 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533520"/>
            <a:ext cx="4419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Middle States Accredit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62120" y="28195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9760" y="3886200"/>
            <a:ext cx="6324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ation of the Action Plan for Growth and Improv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533520"/>
            <a:ext cx="4496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EBD Planning Committee and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942840" y="2057400"/>
            <a:ext cx="725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States Accred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come Reception D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19 at 6:0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THS Cafeteria Sun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286000"/>
            <a:ext cx="723888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Mission State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ing Twelve Sub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38080" y="220968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32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urlington Township School District will develop the intellectual, creative, and social potential of each child through an active partnership with all members of the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2286000"/>
            <a:ext cx="73915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of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BELIEV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ll students learn based on their individual styl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 school community establishes a safe, secure, and positiv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mutual respect and appreciation of diversity enriches a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5720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43200" y="457200"/>
            <a:ext cx="5105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676520"/>
            <a:ext cx="7696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e of the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THS graduat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w respect toward self and others in a personal and profession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critically in order to adapt and apply knowledge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an effective commun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knowledge of emerging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e productively and ethically as a member of our democratic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762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Fa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39152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Support / Non-support of Mission Stat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Ex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895480" y="609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1905120"/>
            <a:ext cx="5867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Artifacts and Evi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In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Ex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Par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tud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38080" y="2057400"/>
            <a:ext cx="198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895480"/>
            <a:ext cx="655344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the Profile of the School and Its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Studen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Organiz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1:10Z</dcterms:created>
  <dc:creator>Nina Franco</dc:creator>
  <dc:description/>
  <dc:language>en-US</dc:language>
  <cp:lastModifiedBy>nfranco</cp:lastModifiedBy>
  <dcterms:modified xsi:type="dcterms:W3CDTF">2009-10-01T21:30:13Z</dcterms:modified>
  <cp:revision>71</cp:revision>
  <dc:subject/>
  <dc:title>Accelerated Reader + Instructional Council Members= Reading Success For All!</dc:title>
</cp:coreProperties>
</file>